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3DE-21E3-4BEC-8B97-F1907AF1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4C8-B79F-465D-9C83-239380EA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9F113-3246-403B-9F90-3DBB4E69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C3E81-4B43-4EFF-ACBC-EC5BFFA3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67599-7786-48A8-8C91-B1A39363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C7839-AC9E-46B2-BB01-C428E28E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98EBA-DBF5-4102-B945-9F8F4A3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F6F8A-B83C-4176-943D-E907D0A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D56DF-AA7C-4848-B1DB-1326E4D4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01EEB-395F-4F92-A348-53B35B56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491D7-E146-414A-B77F-3C960261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42C07-EAFC-40FE-9BA9-910C47B8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1BF-0C59-4D7B-9ED8-9B8B8D15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4CE2B-79AD-4494-A635-ABCA6AC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B9C6F-1AB8-440C-BB38-DA25A3A9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CC6DC-9D1C-49FC-9C6B-824239B9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C874C-5D3C-4157-A3FB-A9B6010D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CD89C-AAB8-42F5-8A0E-60BD48BC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46D25-465E-44F9-AE08-E741F6F1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D7559-6492-4E26-BEE3-51DAC9EF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E59C0-05F2-4DBF-8465-D691FECC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3DE1B-0FBF-43A4-8233-313277BE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44F73-5A4E-4423-87A6-4305F363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A16-E1B5-47CB-AC76-8B14A347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3C745-5B8E-4BB5-A8EC-9E84E1EA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0895E3-1F8D-4773-AE20-D0C6E652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9F371B-04FD-463D-98DB-068AAF44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6145E0-F24D-4AB0-A962-CD63B5F1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BD9A10-E852-40AC-8FFA-D265CA8C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D097FC-55D6-4AAD-9AD4-58339D1F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B00C7D-82E8-45E5-B35F-D407B75B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9B346F-7EA4-4051-9FA7-E04682A6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C630DD-EF17-435C-90AF-20C3CF69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64471D-16EE-49D1-AE91-3E19A20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043E-AF54-4261-BD7B-A579FF34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315128-42CB-463A-ACBC-1C166819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3EE2EA-E14B-447D-B0C4-759E468F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CEAD87-7320-4F7A-84EA-CEB18791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67EE-F009-4815-8939-C24A2CB9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E03E-0571-4E2C-AA3B-B64AFD6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E439-C344-4B59-9391-4036B91F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1EFF-9801-41D2-90C9-B8832125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8E3B-CCC2-454F-B3DA-46068870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109C-A662-479B-B788-707867D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156-42B2-4712-AF9D-7A08D7C0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79D7-053A-42DC-9333-C058D4C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78FE-F40E-4C54-AE1A-56A292C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D8F6-F03B-441F-8870-ACA65348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0CCF-9EAD-4F56-B683-A2045216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42AD-7C04-4918-A3DE-58D1C453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42A10-0496-4E20-B400-EBC66310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60BC-FCB9-455D-B0A4-1A95C58C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32BA7-6625-48D6-9574-6A1E94BC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0C25-20CC-42BE-9E95-BC9F794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D2127-D31B-4774-809C-D98B1090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B87-8A8A-43F3-8A13-A34DD84C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76F2-9A16-4353-AE76-2091FF59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AC8F-47CE-452C-BD36-237DA9E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0461-0946-4F16-B657-F7CB37C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FDE4F-E284-448E-84C7-7919900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306C-6360-49B5-A61D-1A2A4386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E9B6-77B2-4E7D-B77A-1E9DBE68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E180-4BEC-4B5C-A4BF-1F3DBAD1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D98F-310F-43A9-9108-B0A655EB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8D04-514C-464D-B7E0-1D5A4251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1A36-5ABC-405A-8692-2D2CD09D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80B-916B-4C61-A048-C775A0F7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0E77-A028-4DAA-A535-F133B812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31D9E-9A20-47C7-BC28-375B52C3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765DE-9B49-4AF7-9FBA-ABDDA72A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8E738-AC53-4F25-84B7-4AE69745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A571B-085A-41AA-AFB1-8A349F9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AAFC1-E2E4-401F-816C-01273FAC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E182-37F5-4E99-9E25-F0BCBCA8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8F11-393F-4511-A9F0-8134C307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C523-5D67-4B7B-A98D-A47902B5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DC4C-2172-490B-B80D-5F7D067E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682-6657-4762-A84B-D805F85A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CC016-C17F-4323-973A-5AB93D8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9CEA1-F70B-4298-AF6C-BCAC4B47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B695C-B59E-46B3-A381-C19FA95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6F06D-F60B-44E9-BD91-815758F2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6315F-2D37-473B-BB0E-780B6E7E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8B8BC-CEE1-404F-89C3-6FD4DFD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065DC-92CD-42F4-8E46-3AA022CA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46A0D-5C96-40CC-ADCC-91B0D263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6EE4-D69F-4671-BDF3-A863F046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B6301-DFF5-4961-8B31-9C565F79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275-7088-49DB-88A0-EEC1296C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26DB3-6C15-4064-982A-C114C9E8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4A7BE-2BC9-4E1D-89B3-C62B932E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84CA-E908-47C4-B63D-9F12CD16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8F546-BCC9-48FB-B476-E844028B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691AD-DC7B-4709-9BB0-C2BE0C99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79F44-FE02-4B77-AD9E-9F59E684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DE7F3-337F-4653-BC9D-A3394648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CE9D8-AAEB-4A88-B23F-5F15B0E6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2DF2E-1AFA-4414-9018-DB3214A0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FFBDC-FC5E-41F6-8C6B-5424305D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E54-0FEB-41A8-BEDE-E264346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1076F-9B55-4BAB-8A14-2782DB74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4F39-098D-4375-BB78-64467DBD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DD36D-18D6-46E4-90AD-5E5986FA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3E8C1-5769-4EBA-A726-3BF261A9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FEA24-BDC4-4EC6-9BF7-B3B5DAAB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3E10E-181D-4C5B-97E6-C2C2330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7F8B-F770-494C-AEBB-A8017060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8FDEB-8E36-41D5-82D2-F34C4B01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27051-ABF9-42E2-A909-BD34873A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EE8BB-284E-4B09-99EB-D2E23C21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40D-199B-4466-94D1-1E9256E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1E8F2-D0E6-4E42-A021-2AA99463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07036-DD10-452D-9AB7-EE03ABD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D8F5F-2743-45CA-84DD-17B0EF89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E644C-A1D9-4503-AD31-47E93A15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18108-DD07-42CB-A04C-3FCA4BCA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4B9B4-AA6F-435C-B1AE-3A52E86F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603A6-4BD5-4E4B-BE20-4E466375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A53F-955A-4381-BE1B-4DCAED22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8B633-ED31-4935-9731-0097DC09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E7580-48BC-42DE-A8B0-FA9FD7DB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CB1-11E6-401C-92B8-7A690B7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05360-6981-4A2D-A1B0-2FFFF6AF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DB2C7-9BE5-4059-AEBD-8C75CD1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B2739-60D0-4778-8375-D2B5A39C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7FDA5-0E4D-4EEF-88F7-5248C123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7BE7A-A37C-4E55-B340-AAA64D6D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102AF-1967-4F98-9A0D-83331629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C4EB9-6F1D-4890-831A-E0130640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A208B-B800-4E91-B360-29B8D3C6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9608F-703B-468A-AF4F-8CF003AC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45F56-2164-4501-BEC3-777E53B5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78A4-9CE9-4DE9-A7F5-4618C4C76A0B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D493-3F7E-49E7-9F13-8FCBAC559517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2588-4356-41EA-8AA8-405FD5DA3E82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7336-4DEA-4536-9A06-9A224FCCB385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F1E4-F23D-46EC-A518-C94757EFE8BB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84D5-FD4B-4655-8487-5591F00B9E08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212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D15B-F545-40F6-895C-B347B3E69C2E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212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706C-74A6-4C29-BB35-67889076AB43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834E-FD1B-42BF-81E1-7BD832CD3831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4944-7DAA-4842-AB9A-600CFFF3F1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4B12-CBCD-4B0D-9D03-38CF5C4AEC93}" type="slidenum">
              <a:rPr b="0" lang="en-US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3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Прямоугольник 3" descr=""/>
          <p:cNvPicPr/>
          <p:nvPr/>
        </p:nvPicPr>
        <p:blipFill>
          <a:blip r:embed="rId2"/>
          <a:stretch/>
        </p:blipFill>
        <p:spPr>
          <a:xfrm>
            <a:off x="731880" y="1768320"/>
            <a:ext cx="7699320" cy="2359080"/>
          </a:xfrm>
          <a:prstGeom prst="rect">
            <a:avLst/>
          </a:prstGeom>
          <a:ln w="0">
            <a:noFill/>
          </a:ln>
        </p:spPr>
      </p:pic>
      <p:pic>
        <p:nvPicPr>
          <p:cNvPr id="557" name="Pesnya iz detstva - .mp3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Рисунок 1" descr=""/>
          <p:cNvPicPr/>
          <p:nvPr/>
        </p:nvPicPr>
        <p:blipFill>
          <a:blip r:embed="rId2"/>
          <a:stretch/>
        </p:blipFill>
        <p:spPr>
          <a:xfrm>
            <a:off x="3714840" y="500040"/>
            <a:ext cx="5235480" cy="5654520"/>
          </a:xfrm>
          <a:prstGeom prst="rect">
            <a:avLst/>
          </a:prstGeom>
          <a:ln w="0">
            <a:noFill/>
          </a:ln>
        </p:spPr>
      </p:pic>
      <p:sp>
        <p:nvSpPr>
          <p:cNvPr id="575" name="Прямоугольник 2"/>
          <p:cNvSpPr/>
          <p:nvPr/>
        </p:nvSpPr>
        <p:spPr>
          <a:xfrm>
            <a:off x="285840" y="57168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Я пыхчу, пыхчу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Больше греться не хочу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Крышка громко зазвенела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«Пейте чай, вода вскипела!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Рисунок 1" descr=""/>
          <p:cNvPicPr/>
          <p:nvPr/>
        </p:nvPicPr>
        <p:blipFill>
          <a:blip r:embed="rId2"/>
          <a:stretch/>
        </p:blipFill>
        <p:spPr>
          <a:xfrm>
            <a:off x="3714840" y="785880"/>
            <a:ext cx="4581360" cy="5240160"/>
          </a:xfrm>
          <a:prstGeom prst="rect">
            <a:avLst/>
          </a:prstGeom>
          <a:ln w="0">
            <a:noFill/>
          </a:ln>
        </p:spPr>
      </p:pic>
      <p:sp>
        <p:nvSpPr>
          <p:cNvPr id="577" name="Прямоугольник 2"/>
          <p:cNvSpPr/>
          <p:nvPr/>
        </p:nvSpPr>
        <p:spPr>
          <a:xfrm>
            <a:off x="285840" y="642960"/>
            <a:ext cx="285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еприступная на вид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одбоченившись стои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А внутри-то, посмотр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Угощение внутри!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Рисунок 1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8244000" cy="4635360"/>
          </a:xfrm>
          <a:prstGeom prst="rect">
            <a:avLst/>
          </a:prstGeom>
          <a:ln w="0">
            <a:noFill/>
          </a:ln>
        </p:spPr>
      </p:pic>
      <p:sp>
        <p:nvSpPr>
          <p:cNvPr id="579" name="Прямоугольник 2"/>
          <p:cNvSpPr/>
          <p:nvPr/>
        </p:nvSpPr>
        <p:spPr>
          <a:xfrm>
            <a:off x="642960" y="2858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ечём блины, картошку жарим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млет готовим мы на не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 ней нельзя и мы не пари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стой из трав и отруб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Прямоугольник 1" descr=""/>
          <p:cNvPicPr/>
          <p:nvPr/>
        </p:nvPicPr>
        <p:blipFill>
          <a:blip r:embed="rId2"/>
          <a:stretch/>
        </p:blipFill>
        <p:spPr>
          <a:xfrm>
            <a:off x="768240" y="-23760"/>
            <a:ext cx="800424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Рисунок 1" descr=""/>
          <p:cNvPicPr/>
          <p:nvPr/>
        </p:nvPicPr>
        <p:blipFill>
          <a:blip r:embed="rId2"/>
          <a:stretch/>
        </p:blipFill>
        <p:spPr>
          <a:xfrm>
            <a:off x="304920" y="295200"/>
            <a:ext cx="3475080" cy="270216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2" descr=""/>
          <p:cNvPicPr/>
          <p:nvPr/>
        </p:nvPicPr>
        <p:blipFill>
          <a:blip r:embed="rId3"/>
          <a:stretch/>
        </p:blipFill>
        <p:spPr>
          <a:xfrm>
            <a:off x="6294600" y="246240"/>
            <a:ext cx="2022480" cy="245556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3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3419280" cy="197172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"/>
          <p:cNvPicPr/>
          <p:nvPr/>
        </p:nvPicPr>
        <p:blipFill>
          <a:blip r:embed="rId5"/>
          <a:stretch/>
        </p:blipFill>
        <p:spPr>
          <a:xfrm>
            <a:off x="4500720" y="3282840"/>
            <a:ext cx="4356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Рисунок 1" descr=""/>
          <p:cNvPicPr/>
          <p:nvPr/>
        </p:nvPicPr>
        <p:blipFill>
          <a:blip r:embed="rId2"/>
          <a:stretch/>
        </p:blipFill>
        <p:spPr>
          <a:xfrm>
            <a:off x="395280" y="309600"/>
            <a:ext cx="2746440" cy="254304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2" descr=""/>
          <p:cNvPicPr/>
          <p:nvPr/>
        </p:nvPicPr>
        <p:blipFill>
          <a:blip r:embed="rId3"/>
          <a:stretch/>
        </p:blipFill>
        <p:spPr>
          <a:xfrm>
            <a:off x="5435640" y="328680"/>
            <a:ext cx="3365640" cy="259560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3" descr=""/>
          <p:cNvPicPr/>
          <p:nvPr/>
        </p:nvPicPr>
        <p:blipFill>
          <a:blip r:embed="rId4"/>
          <a:stretch/>
        </p:blipFill>
        <p:spPr>
          <a:xfrm>
            <a:off x="395280" y="3168720"/>
            <a:ext cx="2746440" cy="31399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4" descr=""/>
          <p:cNvPicPr/>
          <p:nvPr/>
        </p:nvPicPr>
        <p:blipFill>
          <a:blip r:embed="rId5"/>
          <a:stretch/>
        </p:blipFill>
        <p:spPr>
          <a:xfrm>
            <a:off x="4905360" y="3573360"/>
            <a:ext cx="38959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     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8000" spc="-1" strike="noStrike">
                <a:solidFill>
                  <a:srgbClr val="ff0000"/>
                </a:solidFill>
                <a:latin typeface="Georgi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1" name="Pesnya iz detstva - 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Рисунок 1" descr=""/>
          <p:cNvPicPr/>
          <p:nvPr/>
        </p:nvPicPr>
        <p:blipFill>
          <a:blip r:embed="rId2"/>
          <a:stretch/>
        </p:blipFill>
        <p:spPr>
          <a:xfrm>
            <a:off x="1285920" y="1571760"/>
            <a:ext cx="6588000" cy="445428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2"/>
          <p:cNvSpPr/>
          <p:nvPr/>
        </p:nvSpPr>
        <p:spPr>
          <a:xfrm>
            <a:off x="285840" y="2858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Хоть и задрал он кверху нос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о это вовсе не всерьёз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и перед кем он не гордится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Кто пить захочет - убедитс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Рисунок 1" descr=""/>
          <p:cNvPicPr/>
          <p:nvPr/>
        </p:nvPicPr>
        <p:blipFill>
          <a:blip r:embed="rId2"/>
          <a:stretch/>
        </p:blipFill>
        <p:spPr>
          <a:xfrm>
            <a:off x="3214800" y="357120"/>
            <a:ext cx="5335560" cy="5859360"/>
          </a:xfrm>
          <a:prstGeom prst="rect">
            <a:avLst/>
          </a:prstGeom>
          <a:ln w="0">
            <a:noFill/>
          </a:ln>
        </p:spPr>
      </p:pic>
      <p:sp>
        <p:nvSpPr>
          <p:cNvPr id="561" name="Прямоугольник 2"/>
          <p:cNvSpPr/>
          <p:nvPr/>
        </p:nvSpPr>
        <p:spPr>
          <a:xfrm>
            <a:off x="214200" y="642960"/>
            <a:ext cx="2857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ладшая сестра грабл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Четыре зуба есть у не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о на кухне жизнь её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И дело знает лишь своё!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Рисунок 2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5815080" cy="474804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3"/>
          <p:cNvSpPr/>
          <p:nvPr/>
        </p:nvSpPr>
        <p:spPr>
          <a:xfrm>
            <a:off x="357120" y="214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Чайника подружк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Имеет два ушка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арит кашу, суп для Юл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И зовут её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Рисунок 1" descr=""/>
          <p:cNvPicPr/>
          <p:nvPr/>
        </p:nvPicPr>
        <p:blipFill>
          <a:blip r:embed="rId2"/>
          <a:stretch/>
        </p:blipFill>
        <p:spPr>
          <a:xfrm>
            <a:off x="3214800" y="2000160"/>
            <a:ext cx="4092480" cy="409284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2"/>
          <p:cNvSpPr/>
          <p:nvPr/>
        </p:nvSpPr>
        <p:spPr>
          <a:xfrm>
            <a:off x="357120" y="500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Если я пуста бываю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ро себя не забываю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о когда несу еду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имо рта я не пройду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Рисунок 1" descr=""/>
          <p:cNvPicPr/>
          <p:nvPr/>
        </p:nvPicPr>
        <p:blipFill>
          <a:blip r:embed="rId2"/>
          <a:stretch/>
        </p:blipFill>
        <p:spPr>
          <a:xfrm>
            <a:off x="3286080" y="1428840"/>
            <a:ext cx="4741920" cy="479088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2"/>
          <p:cNvSpPr/>
          <p:nvPr/>
        </p:nvSpPr>
        <p:spPr>
          <a:xfrm>
            <a:off x="285840" y="21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реди ложек я полковни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И зовут меня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Рисунок 2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7667640" cy="442260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3"/>
          <p:cNvSpPr/>
          <p:nvPr/>
        </p:nvSpPr>
        <p:spPr>
          <a:xfrm>
            <a:off x="42876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на бывает глубо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на бывает мел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днако, это не река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Рисунок 1" descr=""/>
          <p:cNvPicPr/>
          <p:nvPr/>
        </p:nvPicPr>
        <p:blipFill>
          <a:blip r:embed="rId2"/>
          <a:stretch/>
        </p:blipFill>
        <p:spPr>
          <a:xfrm>
            <a:off x="2357280" y="1785960"/>
            <a:ext cx="6350040" cy="447048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2"/>
          <p:cNvSpPr/>
          <p:nvPr/>
        </p:nvSpPr>
        <p:spPr>
          <a:xfrm>
            <a:off x="428760" y="35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Если хорошо заточен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се легко он режет очень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Хлеб, картошку, свеклу, мяс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Рыбу, яблоки и масло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Рисунок 2" descr=""/>
          <p:cNvPicPr/>
          <p:nvPr/>
        </p:nvPicPr>
        <p:blipFill>
          <a:blip r:embed="rId2"/>
          <a:stretch/>
        </p:blipFill>
        <p:spPr>
          <a:xfrm>
            <a:off x="2714760" y="1643040"/>
            <a:ext cx="5884560" cy="454032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3"/>
          <p:cNvSpPr/>
          <p:nvPr/>
        </p:nvSpPr>
        <p:spPr>
          <a:xfrm>
            <a:off x="357120" y="35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осит вод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Хозяину в угоду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ри нем живе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ока не упадет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49:04Z</dcterms:created>
  <dc:creator>Spamer</dc:creator>
  <dc:description/>
  <dc:language>en-US</dc:language>
  <cp:lastModifiedBy>Преподаватель</cp:lastModifiedBy>
  <dcterms:modified xsi:type="dcterms:W3CDTF">2012-04-16T09:28:42Z</dcterms:modified>
  <cp:revision>22</cp:revision>
  <dc:subject/>
  <dc:title>Презентация PowerPoint</dc:title>
</cp:coreProperties>
</file>